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02F-4133-4E61-880D-3D0A7614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B17-F192-471E-849C-B96C2D01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A495D-EE34-43B4-A184-0075ACB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2FF4C-A7DE-48EF-AAD1-8CE288E9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F430A-B198-4844-B6A8-7CAAE320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C8B05-DF53-44C9-8D12-E19860C0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C88B8-1CB4-44A8-AF32-389128D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6B67C-40DB-43C9-B07D-41706668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6F3D4-F27C-44CC-A441-D11DE296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4408D-4411-4BF2-A079-09065F93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F1D51-2FAF-4000-AA15-41D2FC95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0186A-697F-412C-A7B0-DBB45C94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864-89F6-439E-B1B6-1A875B14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44282-9B16-4A73-909F-E77F1147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FB4F7-36AA-4939-8899-00354B75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3A519-117E-4A67-9FA8-FBD6AB4F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9D683-2FF7-402C-99AB-7190555C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96FC9-29F5-43D1-AC5D-AB2F8593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CBEA8-566F-4BFA-B624-B887B8C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2E441-69A1-447D-9C39-5E2D6940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DAD9A-0B6F-4DB9-9F7E-29B3C9E0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3DFA0-D8DA-4EE7-8B12-91F46418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5CE80-B036-4681-BA64-98C6C8E6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35C-33E0-49C5-A434-3B381B72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8C88E-48EF-4167-825B-C61500AB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EEBAB-FB6B-4D78-9D31-1CA6BC00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013AD-C298-4795-9342-23420574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EAE97-2172-47C9-A19F-145F83A8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5AEA8-2C71-4CDE-B48E-3F5BA098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BB33A-D80E-4C8B-AFB7-CCCDCF0E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C4C06-83CB-444E-8C72-0C07794A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37149-DA7F-4960-86A8-7BCD6824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288C-CDC0-470C-86FD-18BD19C2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43C1C-9A0B-415C-8E56-E45DD8C1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30CE-5405-41FF-B2AB-8EE94F22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D25AA-A3BA-48F3-97A7-12FAE93B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A9032-D7EE-4D50-A2ED-FC79C0BC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4164C-DFB7-49C6-9BA6-1C8F5CA2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2EDCC-4EC9-47E4-9257-DE82DC72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88737-24DF-484C-B9DE-4724832A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B5522-AB06-4F1C-9DD1-44F7A09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F4F7F-2151-419F-A692-C773669F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24298-B88A-4DB9-A1A5-DA96822C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B5B41-FC44-4DCB-A395-72EC7BF7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EB9AA-0070-47E4-9690-1663222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5D17-1B66-4D3F-AAB3-DA890EE6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9F600-CAB1-40ED-A7C6-FC85777F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E8179-F81D-4568-A92F-E00F2DBC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D7E27-8B4C-4877-8AE0-6C6F5B77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07F63-2C22-45E4-A803-F30375EB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6AE03-A87F-475E-BA57-E5C3948F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A4DBE-A6D1-4214-B716-3D59D275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9239A-CC38-40FB-9272-AEA3049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3A0AB-2D94-4997-B979-BB3BF143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5C166-8BE0-4EC6-A660-AD10204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968EB-EF1B-4DEF-BF80-EFD03236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91F5-3CA5-4788-8FF1-2E928215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E84B5-FBA8-4C55-B7F2-F807F45C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0E331-70BE-41C2-8E21-CCDFC872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67A3D-945B-4F98-8C29-F75DDF2C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79FBC-F307-4103-B1CD-EAD5336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ED5F1-C210-41D9-9108-07DF0CD4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7B4FB-6B77-4F9E-91FF-AC941E3F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03300-5317-48DC-B2B5-2B49008A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45687-4318-4C15-932C-BED35EF4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D9077-523F-4DD5-9453-E81E038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4112D-93D2-4F0E-8337-94C35D5E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F3C2-569E-485D-A828-0E25B66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63276-DF59-4447-9EC4-072B8894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4E352-7005-47E4-A9D9-A8315A92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420D3-471C-455C-8C6C-6A032666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6E155-D95B-4B48-9791-F0EE348B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9C577-C8DC-44CC-A417-B557397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08C48-75B2-4381-8890-840A004B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CB51A-0D73-4750-8715-CE031B45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A652F-472B-42F3-BEAA-5DCC858E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DEB2F-4BA2-4AB7-B537-5310B6E0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B200B-7E41-4D56-8620-7F4E0BEC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F08F-50F1-4E91-87E1-F1308FA9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80605-6454-4E40-9960-B167DBF1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3F178-A1DB-4A35-BF3C-E23ABA90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4D3B1-23A0-45DC-8823-98E5C662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997B6-FB6B-427A-BB40-4498EE94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FDD07-4D6D-4921-B69F-73E3A960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BEFE9-3099-47D1-877D-7F08DAE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C1BDB-9ABE-4295-A356-98E1E7B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D7BEB-D7BC-4896-95D4-F57E579B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E7DD4-471A-46DB-A8BC-4732E169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0A0A7E-B2CE-4D6C-A34F-EC265757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D895-5229-4CB0-A092-F7B186D7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8D1B3-34DA-4923-863B-C5699412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8F779-7942-47EB-BCA6-0404D6DA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F12E5-232C-47B1-91C2-834971EF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E65B1-FD3A-441D-912C-FC810A6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642E7-4757-405A-B7FF-BA53AFC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50B3B-3E03-42A0-BC5A-182ABC02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74262-C914-4F07-A372-5197F87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53718-E3A1-42F0-9471-0A942238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2FF03-9B6C-46E6-88BD-7DE4A0B0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A9361-6086-463D-8FFA-7992C80F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4B3C-FAC6-4ECF-B011-C08C7CC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9E4CA-FF2F-441D-A86E-D44D5FFD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E1F76-BD93-4C5B-BAEB-1712C7D8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371AA-AC66-44AF-A061-DA189C53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101702-C05D-4C45-AD22-AD14FB07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E39BF6-C981-4EB9-860C-C2173A75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DBF5C-6F62-4D9C-A628-7FB77DBA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F70A4-8CE2-4A3D-A8EA-8005C142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0039F-8ECE-4FDE-88C3-F5628E83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E7142-8B1C-437B-BA5D-1CE87A81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2A205-E497-42A4-A284-54AA758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4DC-BAB9-409C-8DCC-3D6BFBBB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320F-B6FF-4205-9D3E-71FB6E43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A1B24-6A8B-4CDC-8EB6-551F3FE7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6A83A-1B99-45A5-91F0-640F116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B03FA-D8D4-4A8A-A66E-DE04705B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E64DC-22DF-4B4C-B2B5-55938D95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D6969-AA30-4BD5-88EE-943C3172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EB238-7A0D-4542-B114-AB9A69A8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A6C1C-9275-451A-AB0C-805192CA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FB0FA-7591-4A70-92A5-E7BEA80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336CD-F08A-4A82-BD03-9626400F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6BB8E-2391-46EC-9801-BFFDAB0F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7FE9-9679-4C2B-BE39-CBA8281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164A3-7A9D-4ED1-B3E7-7B9D00A6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6E6D2-21B4-45D6-BD9F-7084753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1BBDB-8684-48FC-A3D1-4B32A2A1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EC853-E0FC-41B1-A06F-72CF784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8F885-6A22-4143-A3D7-51880289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84BCB-3F8A-4C27-8253-00DF4A77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8810F-20A3-45A9-B97E-CEB4146D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28CC6-254D-43BA-B6A6-AC6B21D9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E4E76-0725-44AA-B252-55EA102C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3547F0-BBF6-4533-B8E2-9EA4E861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A9E2-FB92-495C-B32E-05C270CD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3D1A74-0BF8-4504-B97A-CF0D5BEA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4FC94-2EEC-428C-977D-E64115B4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7799C-FBB3-413C-9FC6-7D64B5F5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A2A45-8865-4D34-BC94-CE5706D2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3F3E9-B7A2-4B69-B6EA-EB46DB34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F33D4B-30DC-4AB4-933B-559CF895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1BCB0-2AE3-4CD5-90FC-5A088EDB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92BA2-BCEB-4FD2-95F8-AFF0E695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E811DC-0DFA-4A0D-ABA2-81A18E88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0FE054-1010-4663-AC81-C08E9EF4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E035-C1EC-4FE9-9431-5FB89C4B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A35DC-DC58-49C0-A4D8-C6DCFF5D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DF58D5-7C4A-40A4-8FAA-A6968581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D8F2A4-CE78-46FB-94FA-383CDADA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6CB62-8207-4298-A585-67FA3A95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EF9577-D3CB-4718-895E-023AA49A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CC32BD-AF47-49B0-A93C-C8F54EDA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EB99E-EFEE-4D44-A805-BE274F59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122B9F-B520-4B7B-B7BB-42D5C23B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2688FA-38A7-4E85-ACC0-050E5D97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8C16E-C0FB-4904-8445-7EBC0C3C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5C8C-54D3-47C7-8844-1A00BA84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635CF-FACD-429B-B58F-7F390936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ED5EBC-9DFC-4C93-9BDC-BBD3C8F6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27A3C7-B6D6-41C8-8958-7654BB1E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CFAF0-AE11-4157-8382-3F4F6481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221DC-4F71-4F0D-992D-D13F7FE0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FE97B0-7A86-41FD-9814-263E582C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9AB8D-51C3-403F-93D1-4DD655A5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178320-5657-4971-8B05-978D486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C2C517-457F-4A62-890C-DC48BFC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7FF76C-E4E6-486F-800D-551B4F16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CAC4-C134-4E32-8F57-906C7E80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514AED-A9E2-420E-A13B-0D376B0C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E9040-D024-4073-9B7A-A26509D3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A87440-FDFE-44DD-A6F5-37826C9D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A8049A-1279-4291-91F0-5D8B47DE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A34D5-C5A8-43A5-B986-D365E3A9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7191F3-91D4-478F-88D6-D093AE06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216FD2-FD9B-434B-B553-132CA0E9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091F7C-87F6-41B1-B859-D1483D3B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3ADD6-C739-41D6-AE65-BC9FA38D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F8B3FB-4F3D-4513-8B03-D8B88C5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8774-4BE6-4CF5-BE0E-FD1668A0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28E0FC-EBF3-4745-B65C-AD2C0D64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9D326D-D6A6-4DB8-AF99-42C5EA0A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B098C-F993-4F1D-BDBA-6272EA0C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F4EB6A-32F5-4870-85A0-96F84AE5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5A6B00-A99B-47C7-936E-C09B0369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0B8252-CF96-4A32-87E6-E631F83D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748D66-FF6F-4839-9461-0DE9C1FB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0198CE-2881-42EC-80F7-B30050A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1AA669-23B4-4F9C-93B4-1CD721C5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A8C7E7-BCEA-4AC3-AB5F-DEAB8959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12F6-3E74-409F-8695-293D9193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4C415-AB8A-4112-BCCC-9E0CBAE6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9D3CEB-8707-4302-82E6-5122248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424216-97EA-4AA7-A5FC-74999FC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97851-A088-4F03-82E4-5E8F4C9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A7DC26-9903-47A4-A319-848750A8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B60B52-892C-4999-B796-C04025A7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57C002-EBF6-4424-A3A7-4C774738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071A-19B4-4ADA-B9AB-79A22215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09B2-CE29-4BD9-B257-B87E0933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F51-F767-43DE-8913-478C260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0D7F-6F1E-4821-AC25-F339B626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F750-FAFE-4104-8AEC-BCA5E996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B2DE-24E0-466A-9A24-2A451595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EFB1-BDAA-4E68-98C6-C84E760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B0BC-750A-4345-BE57-C980ABDA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7491-95A5-474B-8DB9-E90C848A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A642-AD25-4F15-AAB3-B9276945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2429-0A30-4115-BFA7-25D36773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BC0C-AA67-49FD-B715-A4D5425F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24845-7107-40C9-B300-5C0C8EDF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CE7-141E-4D7D-9980-34E9C03C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E064-DBE2-4328-9C07-35C20224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5D6A-DD94-4465-A728-0E28CDD2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2B44-8F89-4A34-A56A-9711338A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92EC-434C-418E-9228-5FB85028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E2C57-402F-4214-8383-480265C9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0CDE-96EF-4F18-B7A5-1B58732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4F79B-5679-45E1-8278-2B62BDC0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D44D-1EF3-4FF6-8D50-08E0F8B0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3529-C5B8-40D0-ADA9-BA40D771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1B542-7514-4292-AA48-3488F198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319-49FF-44E0-B00A-EC7995D1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5BF70-7CEE-424E-9C53-AFD759A5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3D965-772C-4191-B426-2D4341CB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53BA3-FA0F-490E-8717-A602FADB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8A90B-5FC8-4087-BFF5-A340AFA8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4471D-9247-4CBB-AF4B-5E5C78C3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859D-7106-40A8-8606-B55A77B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5000-8784-4024-A3E0-03ABFB0D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702C-2079-44E5-BE10-0775D039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0845E-86B8-4634-9782-C41D0EE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DF88C-73C1-4952-8B99-30C5B939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ABB-8427-487C-AADA-B3183681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C9D4-D109-4980-B863-31722BE5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F36E0-4975-4E58-B9D5-26941C6E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17316-DFEE-412B-9E0D-71D37CDB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CDD9C-A8C3-4E2C-B7A0-284F3494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FD4E6-5616-4B96-8B60-12740A27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BE06C-B77D-4AEB-BC4F-E086722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FAA51-DACD-4EFF-963C-8C65C4DE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885BF-FBDF-4EC2-9EC6-6CD170E3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3E89C-6920-484B-BA14-3EC2365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71AD7-8432-4FB0-8FE3-C2FE28F7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EA5-7958-4586-AADE-922454F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CA7F1-FB0B-4189-AF77-FAE7634B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3099D-9798-4C6E-969F-DBDA2BB1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B2A36-70C7-440C-959F-3F51F8E1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F7E3B-D376-40F9-9E0B-209F544D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7FE0-CEEA-4E36-AF79-75E941D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FB23E-4865-4005-B9D7-9BB56998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F9F0-F53D-41B8-BE25-5AC2E2DE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16215-71E4-4A65-BA0F-8C70A8BE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D0855-B9A6-453B-BC47-F9F2A123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AD4D1-0067-42E0-B8E5-2FACF99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360-EE56-4CC3-9103-D1E225D1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6AA8A-A1E4-41F8-9F51-8472CEB2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AD62F-0501-4487-B161-055BCC1E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473BD-7050-45A0-8952-F07F4B04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6A2B0-61A3-4204-95F0-9D07FC4C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B04FF-0A83-42B0-BBF9-8C2CD282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67D19-5891-495C-8844-E0AB05B2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05DCD-1028-475E-A94F-947540D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96F24-B760-4190-936F-B012696A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4A76E-9F93-452C-A678-8AFA0242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F1008-892F-4BCB-9238-76D9B968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354-DDD2-4FB6-98AE-AF4A298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92EC4-D819-43C1-9E71-860AC16D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D0751-B517-42B0-A138-6E261BF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2EE44-577F-476D-94F4-BC9F4C5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5659E-4046-4F88-B9EA-B108DB70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EC38-518E-4CDB-93AF-95FAACB9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1D1D5-4C8B-4974-9216-010F295B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AEC0-CE9D-460A-856E-076533F3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DEDDB-B196-4FD3-841A-37E9E022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77EA7-9794-4510-AE05-B15AF7A0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0ADAC-2909-4E92-B7EA-11B3006E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430E-8A97-422E-89D8-0CEF0DD5C8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AB7-5226-4BD0-BFAC-3350916DF4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A10E-519A-44CF-9398-521EE6E527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FA5F-0CD5-49F0-82E3-B53FF03AE2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75A2-859D-45F9-96CC-5F2287F5F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AEF2-39C5-47C0-8143-8FEAC5C12C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A6A3-9317-4325-AAF4-D76F4E9DC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916-DDFC-40A0-83CE-48450EFC4C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4149-FB72-4E10-AA20-E8497DD928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475E-642D-404E-BF18-C5E254E42E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B8D7-D838-4FEF-8048-2FEF027D31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4031-0187-4104-8B3C-70DA8DF99A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4DC8-F95C-47EC-AFA2-BDD0491A00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746-46AC-4E1A-B466-B2253FDF52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29FF-061C-4FE7-86B4-6C5D95F32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EA81-CE71-4C69-8B96-95B0F83542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BF51-4CCB-4404-8979-6C7085AEC4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E4A4-7AAA-4996-877D-5516757866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4300-AD8D-49D3-B536-081929ED7F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DC9A-56D7-439B-9788-A2803249CA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C089-E273-4E75-8CB5-9099546640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93E1-B97C-468B-A9EA-4996F3D9D0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4FAE-B35E-4BFA-A045-DE475B6A9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ACCC-9243-45D6-B3B6-0D7285020D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438C-F296-469E-A3F8-B2293B083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00F3-8A6D-4E42-9166-1744FD3A51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3823-0AD2-437B-AFCB-EB22C4D81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1DB1-F4F3-4BC9-BC61-0257D06CB7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A12D-0991-43E9-BCF6-3A7547511F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E227-6DB2-41E5-9C4C-90859E3BC1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BE72-9DAD-4064-B269-3F1F43BA4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6B5B-D3A9-4785-91E0-F95F9A38C8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0B09-FDF0-4535-ABAE-BF565F8B8B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0C4F-1597-43FF-97D1-43DD462CEC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6653-F6EA-4C8A-A3E4-5E66EBF8C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7DD-D18A-48A4-9A88-2DFBA4D16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5412-89BE-4742-B0DC-FC09BEF172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772-E9C4-49D5-88CA-74DE31C9E8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29B6-3B6C-49C9-A674-BEDF13DF1C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B46B-026E-449D-856A-48B4B5695E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F6C2-96A8-49A0-9FCC-FB4A21424D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FBA-F18B-4B7B-B3A9-24B72AC32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690640" y="2962440"/>
            <a:ext cx="376272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04840" y="231840"/>
            <a:ext cx="8732880" cy="65628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250920" y="865080"/>
            <a:ext cx="8642160" cy="4111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111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179280" y="2075040"/>
            <a:ext cx="8642520" cy="4111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179280" y="2693880"/>
            <a:ext cx="8642520" cy="4111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208080" y="3284640"/>
            <a:ext cx="8642160" cy="4111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7"/>
          <a:stretch/>
        </p:blipFill>
        <p:spPr>
          <a:xfrm>
            <a:off x="208080" y="3903840"/>
            <a:ext cx="8642160" cy="4111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8"/>
          <a:stretch/>
        </p:blipFill>
        <p:spPr>
          <a:xfrm>
            <a:off x="179280" y="4494240"/>
            <a:ext cx="8642520" cy="4111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9"/>
          <a:stretch/>
        </p:blipFill>
        <p:spPr>
          <a:xfrm>
            <a:off x="179280" y="5113440"/>
            <a:ext cx="8642520" cy="4111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10"/>
          <a:stretch/>
        </p:blipFill>
        <p:spPr>
          <a:xfrm>
            <a:off x="250920" y="5703840"/>
            <a:ext cx="8642160" cy="4111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11"/>
          <a:stretch/>
        </p:blipFill>
        <p:spPr>
          <a:xfrm>
            <a:off x="250920" y="6251400"/>
            <a:ext cx="864216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6000" y="927000"/>
            <a:ext cx="871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19240" y="1062000"/>
            <a:ext cx="87055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90440" y="838080"/>
            <a:ext cx="8763120" cy="51818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1979640" y="2608200"/>
            <a:ext cx="1297080" cy="4111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7846920" y="2608200"/>
            <a:ext cx="1117800" cy="4111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250920" y="3198960"/>
            <a:ext cx="1117440" cy="4111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1835280" y="3760920"/>
            <a:ext cx="1117440" cy="4111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5364000" y="4351320"/>
            <a:ext cx="3529080" cy="4111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7"/>
          <a:stretch/>
        </p:blipFill>
        <p:spPr>
          <a:xfrm>
            <a:off x="295200" y="4927680"/>
            <a:ext cx="47815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2" descr=""/>
          <p:cNvPicPr/>
          <p:nvPr/>
        </p:nvPicPr>
        <p:blipFill>
          <a:blip r:embed="rId1"/>
          <a:stretch/>
        </p:blipFill>
        <p:spPr>
          <a:xfrm>
            <a:off x="200160" y="857160"/>
            <a:ext cx="8743680" cy="5143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7956720" y="893880"/>
            <a:ext cx="1008000" cy="4111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1728720" cy="411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4572000" y="1469880"/>
            <a:ext cx="4321080" cy="4114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250920" y="2060640"/>
            <a:ext cx="3384360" cy="411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1835280" y="2637000"/>
            <a:ext cx="4824360" cy="411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1116000" y="4971960"/>
            <a:ext cx="1008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204840" y="1685880"/>
            <a:ext cx="8732880" cy="3486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2"/>
          <a:stretch/>
        </p:blipFill>
        <p:spPr>
          <a:xfrm>
            <a:off x="3276720" y="1744560"/>
            <a:ext cx="1800000" cy="4111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7343640" y="2909880"/>
            <a:ext cx="15494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25360" y="654120"/>
            <a:ext cx="86947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52280" y="1047600"/>
            <a:ext cx="8839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311040" y="776160"/>
            <a:ext cx="85233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1:2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